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ct" ContentType="image/x-pict"/>
  <Override PartName="/ppt/media/image24.png" ContentType="image/png"/>
  <Override PartName="/ppt/media/image11.pct" ContentType="image/x-pict"/>
  <Override PartName="/ppt/media/image9.pct" ContentType="image/x-pict"/>
  <Override PartName="/ppt/media/image6.png" ContentType="image/png"/>
  <Override PartName="/ppt/media/image13.png" ContentType="image/png"/>
  <Override PartName="/ppt/media/image8.png" ContentType="image/png"/>
  <Override PartName="/ppt/media/image5.pct" ContentType="image/x-pict"/>
  <Override PartName="/ppt/media/image7.png" ContentType="image/png"/>
  <Override PartName="/ppt/media/image1.jpeg" ContentType="image/jpeg"/>
  <Override PartName="/ppt/media/image4.pct" ContentType="image/x-pict"/>
  <Override PartName="/ppt/media/image27.pct" ContentType="image/x-pict"/>
  <Override PartName="/ppt/media/image3.png" ContentType="image/png"/>
  <Override PartName="/ppt/media/image26.png" ContentType="image/png"/>
  <Override PartName="/ppt/media/image25.png" ContentType="image/png"/>
  <Override PartName="/ppt/media/image23.pct" ContentType="image/x-pict"/>
  <Override PartName="/ppt/media/image14.png" ContentType="image/png"/>
  <Override PartName="/ppt/media/image22.png" ContentType="image/png"/>
  <Override PartName="/ppt/media/image2.pct" ContentType="image/x-pict"/>
  <Override PartName="/ppt/media/image10.png" ContentType="image/png"/>
  <Override PartName="/ppt/media/image21.png" ContentType="image/png"/>
  <Override PartName="/ppt/media/image19.png" ContentType="image/png"/>
  <Override PartName="/ppt/media/image16.pct" ContentType="image/x-pict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7CD8-8657-44EB-8874-3DDE6153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B06F-FFE6-43C8-B9D2-FB21ADCC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71D-2E39-4CF0-89E4-EC1793C2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7AD2-537B-4D49-9AC4-DF6B68FC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D96E-465E-4CB3-95C8-7C71AE89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5B38-1EBA-4F9D-87E0-C0C5C407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4512-6740-4FD0-BB79-25BB9593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52C-3C15-4FC1-B587-950BF44F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CBB6-A1BE-410D-A4F3-ADEFB556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3CEF-F7B3-4F5D-9DE9-A5D8EFE3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E6E-307F-4CC2-AB87-784742DC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BEA0-E5F5-4093-95E0-8BD8FDE3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6A36-62EB-4501-992F-37F4166BE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ct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5.pct"/><Relationship Id="rId5" Type="http://schemas.openxmlformats.org/officeDocument/2006/relationships/image" Target="../media/image4.pct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0"/>
            <a:ext cx="6248520" cy="6858000"/>
          </a:xfrm>
          <a:prstGeom prst="rect">
            <a:avLst/>
          </a:prstGeom>
          <a:gradFill rotWithShape="0">
            <a:gsLst>
              <a:gs pos="0">
                <a:srgbClr val="eac3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160020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165b"/>
                </a:solidFill>
                <a:latin typeface="Gill Sans"/>
              </a:rPr>
              <a:t>Annotating Fosmid 99M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165b"/>
                </a:solidFill>
                <a:latin typeface="Gill Sans"/>
              </a:rPr>
              <a:t>Sonal Singh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165b"/>
                </a:solidFill>
                <a:latin typeface="Gill Sans"/>
              </a:rPr>
              <a:t>5.2.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6235" r="0" b="0"/>
          <a:stretch/>
        </p:blipFill>
        <p:spPr>
          <a:xfrm>
            <a:off x="0" y="0"/>
            <a:ext cx="487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46000" y="136440"/>
            <a:ext cx="209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5a02"/>
                </a:solidFill>
                <a:latin typeface="Gill Sans"/>
              </a:rPr>
              <a:t>Repea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640" y="914400"/>
            <a:ext cx="630360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5a02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  </a:t>
            </a: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Repeats 23 and 87 are complement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c5a02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c5a02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c5a02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c5a02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c5a02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c5a02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c5a02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c5a02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c5a02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c5a02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  </a:t>
            </a: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Repeat 87 is within an intron in Feature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c5a02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  </a:t>
            </a: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Repeat 71 is a inverted tandem repe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c5a02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c5a02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  </a:t>
            </a: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Repeat 82 could not be characterized fur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3120" y="1676520"/>
            <a:ext cx="6197760" cy="208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556080" y="136440"/>
            <a:ext cx="207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5a02"/>
                </a:solidFill>
                <a:latin typeface="Gill Sans"/>
              </a:rPr>
              <a:t>Synte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58276"/>
          <a:stretch/>
        </p:blipFill>
        <p:spPr>
          <a:xfrm>
            <a:off x="343080" y="1981080"/>
            <a:ext cx="8458200" cy="213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636120" y="5097600"/>
            <a:ext cx="792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Possible evidence of both an inversion and a translocatio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048120" y="25142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240" y="136440"/>
            <a:ext cx="916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5a02"/>
                </a:solidFill>
                <a:latin typeface="Gill Sans"/>
              </a:rPr>
              <a:t>ClustalW of Genic Region: cathepsin-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000160" y="1066680"/>
            <a:ext cx="5143680" cy="5562720"/>
            <a:chOff x="2000160" y="1066680"/>
            <a:chExt cx="5143680" cy="556272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rcRect l="2582" t="0" r="11471" b="0"/>
            <a:stretch/>
          </p:blipFill>
          <p:spPr>
            <a:xfrm>
              <a:off x="2000160" y="1066680"/>
              <a:ext cx="5143680" cy="5562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7" name=""/>
            <p:cNvSpPr/>
            <p:nvPr/>
          </p:nvSpPr>
          <p:spPr>
            <a:xfrm>
              <a:off x="3545640" y="1066680"/>
              <a:ext cx="3399840" cy="1390680"/>
            </a:xfrm>
            <a:prstGeom prst="rect">
              <a:avLst/>
            </a:prstGeom>
            <a:solidFill>
              <a:srgbClr val="99ccff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81960" y="2457360"/>
              <a:ext cx="3863160" cy="1390320"/>
            </a:xfrm>
            <a:prstGeom prst="rect">
              <a:avLst/>
            </a:prstGeom>
            <a:solidFill>
              <a:srgbClr val="99ccff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81960" y="3847680"/>
              <a:ext cx="3863160" cy="1390680"/>
            </a:xfrm>
            <a:prstGeom prst="rect">
              <a:avLst/>
            </a:prstGeom>
            <a:solidFill>
              <a:srgbClr val="99ccff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81960" y="5238720"/>
              <a:ext cx="3554280" cy="1272960"/>
            </a:xfrm>
            <a:prstGeom prst="rect">
              <a:avLst/>
            </a:prstGeom>
            <a:solidFill>
              <a:srgbClr val="99ccff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94840" y="13644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5a02"/>
                </a:solidFill>
                <a:latin typeface="Gill Sans"/>
              </a:rPr>
              <a:t>ClustalW of 5’ Upstream Region: </a:t>
            </a:r>
            <a:r>
              <a:rPr b="0" i="1" lang="en-US" sz="4000" spc="-1" strike="noStrike">
                <a:solidFill>
                  <a:srgbClr val="1c5a02"/>
                </a:solidFill>
                <a:latin typeface="Gill Sans"/>
              </a:rPr>
              <a:t>to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33520" y="1498680"/>
            <a:ext cx="8076960" cy="1930320"/>
            <a:chOff x="533520" y="1498680"/>
            <a:chExt cx="8076960" cy="19303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533520" y="1498680"/>
              <a:ext cx="8076960" cy="1930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4" name=""/>
            <p:cNvSpPr/>
            <p:nvPr/>
          </p:nvSpPr>
          <p:spPr>
            <a:xfrm>
              <a:off x="5105520" y="1498680"/>
              <a:ext cx="2971800" cy="1904760"/>
            </a:xfrm>
            <a:prstGeom prst="rect">
              <a:avLst/>
            </a:prstGeom>
            <a:solidFill>
              <a:srgbClr val="ff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800280" y="4267080"/>
            <a:ext cx="7543800" cy="773280"/>
            <a:chOff x="800280" y="4267080"/>
            <a:chExt cx="7543800" cy="773280"/>
          </a:xfrm>
        </p:grpSpPr>
        <p:grpSp>
          <p:nvGrpSpPr>
            <p:cNvPr id="116" name=""/>
            <p:cNvGrpSpPr/>
            <p:nvPr/>
          </p:nvGrpSpPr>
          <p:grpSpPr>
            <a:xfrm>
              <a:off x="800280" y="4267080"/>
              <a:ext cx="7543800" cy="773280"/>
              <a:chOff x="800280" y="4267080"/>
              <a:chExt cx="7543800" cy="773280"/>
            </a:xfrm>
          </p:grpSpPr>
          <p:pic>
            <p:nvPicPr>
              <p:cNvPr id="117" name="" descr=""/>
              <p:cNvPicPr/>
              <p:nvPr/>
            </p:nvPicPr>
            <p:blipFill>
              <a:blip r:embed="rId2"/>
              <a:srcRect l="2892" t="13317" r="3313" b="21578"/>
              <a:stretch/>
            </p:blipFill>
            <p:spPr>
              <a:xfrm>
                <a:off x="800280" y="4288320"/>
                <a:ext cx="7543800" cy="7520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4100760" y="4267080"/>
                <a:ext cx="353520" cy="773280"/>
              </a:xfrm>
              <a:prstGeom prst="rect">
                <a:avLst/>
              </a:prstGeom>
              <a:solidFill>
                <a:srgbClr val="00ff00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807800" y="4267080"/>
                <a:ext cx="353520" cy="773280"/>
              </a:xfrm>
              <a:prstGeom prst="rect">
                <a:avLst/>
              </a:prstGeom>
              <a:solidFill>
                <a:srgbClr val="00ff00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632920" y="4267080"/>
                <a:ext cx="353520" cy="773280"/>
              </a:xfrm>
              <a:prstGeom prst="rect">
                <a:avLst/>
              </a:prstGeom>
              <a:solidFill>
                <a:srgbClr val="00ff00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58040" y="4267080"/>
                <a:ext cx="353520" cy="773280"/>
              </a:xfrm>
              <a:prstGeom prst="rect">
                <a:avLst/>
              </a:prstGeom>
              <a:solidFill>
                <a:srgbClr val="00ff00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2" name="" descr=""/>
            <p:cNvPicPr/>
            <p:nvPr/>
          </p:nvPicPr>
          <p:blipFill>
            <a:blip r:embed="rId3"/>
            <a:srcRect l="0" t="43711" r="0" b="0"/>
            <a:stretch/>
          </p:blipFill>
          <p:spPr>
            <a:xfrm>
              <a:off x="838080" y="4336920"/>
              <a:ext cx="1454400" cy="692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87280" y="136440"/>
            <a:ext cx="31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5a02"/>
                </a:solidFill>
                <a:latin typeface="Gill Sans"/>
              </a:rPr>
              <a:t>Final Fosm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2652840"/>
            <a:ext cx="822960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87280" y="136440"/>
            <a:ext cx="31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5a02"/>
                </a:solidFill>
                <a:latin typeface="Gill Sans"/>
              </a:rPr>
              <a:t>Final Fosm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2652840"/>
            <a:ext cx="822960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58040" y="152280"/>
            <a:ext cx="342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5a02"/>
                </a:solidFill>
                <a:latin typeface="Gill Sans"/>
              </a:rPr>
              <a:t>Genscan 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93760" y="1219320"/>
            <a:ext cx="6730560" cy="5112720"/>
            <a:chOff x="1193760" y="1219320"/>
            <a:chExt cx="6730560" cy="511272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193760" y="1219320"/>
              <a:ext cx="6730560" cy="5112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rcRect l="16399" t="0" r="0" b="0"/>
            <a:stretch/>
          </p:blipFill>
          <p:spPr>
            <a:xfrm>
              <a:off x="2099880" y="2383200"/>
              <a:ext cx="3073680" cy="2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3"/>
            <a:srcRect l="0" t="0" r="80000" b="0"/>
            <a:stretch/>
          </p:blipFill>
          <p:spPr>
            <a:xfrm>
              <a:off x="2559240" y="4700160"/>
              <a:ext cx="3294000" cy="2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4"/>
            <a:srcRect l="0" t="0" r="80000" b="0"/>
            <a:stretch/>
          </p:blipFill>
          <p:spPr>
            <a:xfrm>
              <a:off x="3782880" y="3289680"/>
              <a:ext cx="3364560" cy="27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5"/>
            <a:srcRect l="51376" t="0" r="0" b="0"/>
            <a:stretch/>
          </p:blipFill>
          <p:spPr>
            <a:xfrm>
              <a:off x="2099880" y="4196160"/>
              <a:ext cx="2945520" cy="272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66160" y="152280"/>
            <a:ext cx="559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5a02"/>
                </a:solidFill>
                <a:latin typeface="Gill Sans"/>
              </a:rPr>
              <a:t>Feature 1: </a:t>
            </a:r>
            <a:r>
              <a:rPr b="0" i="1" lang="en-US" sz="4000" spc="-1" strike="noStrike">
                <a:solidFill>
                  <a:srgbClr val="1c5a02"/>
                </a:solidFill>
                <a:latin typeface="Gill Sans"/>
              </a:rPr>
              <a:t>toy </a:t>
            </a:r>
            <a:r>
              <a:rPr b="0" lang="en-US" sz="4000" spc="-1" strike="noStrike">
                <a:solidFill>
                  <a:srgbClr val="1c5a02"/>
                </a:solidFill>
                <a:latin typeface="Gill Sans"/>
              </a:rPr>
              <a:t>ortholo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86080" y="1295280"/>
            <a:ext cx="6172200" cy="112392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2190600" y="2895480"/>
            <a:ext cx="4762800" cy="2000520"/>
            <a:chOff x="2190600" y="2895480"/>
            <a:chExt cx="4762800" cy="2000520"/>
          </a:xfrm>
        </p:grpSpPr>
        <p:pic>
          <p:nvPicPr>
            <p:cNvPr id="56" name="" descr=""/>
            <p:cNvPicPr/>
            <p:nvPr/>
          </p:nvPicPr>
          <p:blipFill>
            <a:blip r:embed="rId2"/>
            <a:srcRect l="57243" t="5670" r="13792" b="60340"/>
            <a:stretch/>
          </p:blipFill>
          <p:spPr>
            <a:xfrm>
              <a:off x="4619520" y="2895480"/>
              <a:ext cx="2333880" cy="2000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" name="" descr=""/>
            <p:cNvPicPr/>
            <p:nvPr/>
          </p:nvPicPr>
          <p:blipFill>
            <a:blip r:embed="rId3"/>
            <a:srcRect l="34287" t="2993" r="35716" b="60090"/>
            <a:stretch/>
          </p:blipFill>
          <p:spPr>
            <a:xfrm>
              <a:off x="2190600" y="2895480"/>
              <a:ext cx="2270160" cy="2000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09480" y="5624640"/>
            <a:ext cx="7826400" cy="92844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1905120" y="2438280"/>
            <a:ext cx="3504960" cy="381240"/>
            <a:chOff x="1905120" y="2438280"/>
            <a:chExt cx="3504960" cy="381240"/>
          </a:xfrm>
        </p:grpSpPr>
        <p:sp>
          <p:nvSpPr>
            <p:cNvPr id="60" name=""/>
            <p:cNvSpPr/>
            <p:nvPr/>
          </p:nvSpPr>
          <p:spPr>
            <a:xfrm>
              <a:off x="1905120" y="2438280"/>
              <a:ext cx="914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14600" y="2438280"/>
              <a:ext cx="2895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87440" y="136440"/>
            <a:ext cx="816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5a02"/>
                </a:solidFill>
                <a:latin typeface="Gill Sans"/>
              </a:rPr>
              <a:t>Feature 2: Genscan mispred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2827" b="0"/>
          <a:stretch/>
        </p:blipFill>
        <p:spPr>
          <a:xfrm>
            <a:off x="250920" y="2000160"/>
            <a:ext cx="864216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9320" y="1364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5a02"/>
                </a:solidFill>
                <a:latin typeface="Gill Sans"/>
              </a:rPr>
              <a:t>Feature 3: cathepsin-L ortholo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95320" y="1343160"/>
          <a:ext cx="7353360" cy="9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1343160"/>
                    <a:ext cx="735336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990720" y="5486400"/>
            <a:ext cx="7238880" cy="111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914400" y="2743200"/>
            <a:ext cx="7353360" cy="2286000"/>
            <a:chOff x="914400" y="2743200"/>
            <a:chExt cx="7353360" cy="2286000"/>
          </a:xfrm>
        </p:grpSpPr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6019920" y="2743200"/>
              <a:ext cx="2247840" cy="2271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3502080" y="2757600"/>
              <a:ext cx="2247840" cy="2271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1" name="" descr=""/>
            <p:cNvPicPr/>
            <p:nvPr/>
          </p:nvPicPr>
          <p:blipFill>
            <a:blip r:embed="rId6"/>
            <a:stretch/>
          </p:blipFill>
          <p:spPr>
            <a:xfrm>
              <a:off x="914400" y="2743200"/>
              <a:ext cx="2247840" cy="2271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2437920" y="2286000"/>
            <a:ext cx="4572360" cy="380880"/>
            <a:chOff x="2437920" y="2286000"/>
            <a:chExt cx="4572360" cy="380880"/>
          </a:xfrm>
        </p:grpSpPr>
        <p:sp>
          <p:nvSpPr>
            <p:cNvPr id="73" name=""/>
            <p:cNvSpPr/>
            <p:nvPr/>
          </p:nvSpPr>
          <p:spPr>
            <a:xfrm>
              <a:off x="7010280" y="2286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4876920" y="228600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437920" y="22860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9320" y="13644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5a02"/>
                </a:solidFill>
                <a:latin typeface="Gill Sans"/>
              </a:rPr>
              <a:t>Feature 3: cathepsin-L ortholo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5a02"/>
                </a:solidFill>
                <a:latin typeface="Gill Sans"/>
              </a:rPr>
              <a:t>Where is exon 1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80880" y="2489040"/>
            <a:ext cx="8610840" cy="2030400"/>
            <a:chOff x="380880" y="2489040"/>
            <a:chExt cx="8610840" cy="20304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380880" y="2489040"/>
              <a:ext cx="861084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00320" y="3237840"/>
              <a:ext cx="8591400" cy="551520"/>
            </a:xfrm>
            <a:prstGeom prst="rect">
              <a:avLst/>
            </a:prstGeom>
            <a:solidFill>
              <a:srgbClr val="009999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9320" y="13644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5a02"/>
                </a:solidFill>
                <a:latin typeface="Gill Sans"/>
              </a:rPr>
              <a:t>Feature 3: cathepsin-L ortholo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5a02"/>
                </a:solidFill>
                <a:latin typeface="Gill Sans"/>
              </a:rPr>
              <a:t>Finding the Start Co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360" y="1566720"/>
            <a:ext cx="8397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Strategy 1: Maybe a new ORF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	</a:t>
            </a: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-found all putative ORFs 6 Kb upstream of exon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	</a:t>
            </a: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-identified three ORF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	</a:t>
            </a: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-ORF 1 not conserved across </a:t>
            </a:r>
            <a:r>
              <a:rPr b="0" i="1" lang="en-US" sz="2200" spc="-1" strike="noStrike">
                <a:solidFill>
                  <a:srgbClr val="1c5a02"/>
                </a:solidFill>
                <a:latin typeface="Gill Sans"/>
              </a:rPr>
              <a:t>D. virilis</a:t>
            </a: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, </a:t>
            </a:r>
            <a:r>
              <a:rPr b="0" i="1" lang="en-US" sz="2200" spc="-1" strike="noStrike">
                <a:solidFill>
                  <a:srgbClr val="1c5a02"/>
                </a:solidFill>
                <a:latin typeface="Gill Sans"/>
              </a:rPr>
              <a:t>D. mojavenesis</a:t>
            </a: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, and </a:t>
            </a: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	</a:t>
            </a: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	</a:t>
            </a:r>
            <a:r>
              <a:rPr b="0" i="1" lang="en-US" sz="2200" spc="-1" strike="noStrike">
                <a:solidFill>
                  <a:srgbClr val="1c5a02"/>
                </a:solidFill>
                <a:latin typeface="Gill Sans"/>
              </a:rPr>
              <a:t>D. grimshaw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c5a02"/>
                </a:solidFill>
                <a:latin typeface="Gill Sans"/>
              </a:rPr>
              <a:t>	</a:t>
            </a:r>
            <a:r>
              <a:rPr b="0" i="1" lang="en-US" sz="2200" spc="-1" strike="noStrike">
                <a:solidFill>
                  <a:srgbClr val="1c5a02"/>
                </a:solidFill>
                <a:latin typeface="Gill Sans"/>
              </a:rPr>
              <a:t>-</a:t>
            </a: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ORF 2 and 3 are repetitive 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Strategy 2: Maybe start codon within exon 2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724040" y="4572000"/>
            <a:ext cx="5695560" cy="1949040"/>
            <a:chOff x="1724040" y="4572000"/>
            <a:chExt cx="5695560" cy="194904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1724040" y="4572000"/>
              <a:ext cx="5695560" cy="1949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4" name=""/>
            <p:cNvSpPr/>
            <p:nvPr/>
          </p:nvSpPr>
          <p:spPr>
            <a:xfrm>
              <a:off x="3668760" y="4572000"/>
              <a:ext cx="111240" cy="555480"/>
            </a:xfrm>
            <a:prstGeom prst="rect">
              <a:avLst/>
            </a:prstGeom>
            <a:solidFill>
              <a:srgbClr val="ff00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42320" y="4572000"/>
              <a:ext cx="109800" cy="555480"/>
            </a:xfrm>
            <a:prstGeom prst="rect">
              <a:avLst/>
            </a:prstGeom>
            <a:solidFill>
              <a:srgbClr val="3366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46000" y="136440"/>
            <a:ext cx="209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5a02"/>
                </a:solidFill>
                <a:latin typeface="Gill Sans"/>
              </a:rPr>
              <a:t>Repea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7280" y="914400"/>
            <a:ext cx="772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5a02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  </a:t>
            </a: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Began with 26% repetitive 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c5a02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  </a:t>
            </a: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Found 27 repeats through Repe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	</a:t>
            </a: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-5 are continuations of existing repe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	</a:t>
            </a: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-18 are not continuations but are short to cons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	</a:t>
            </a:r>
            <a:r>
              <a:rPr b="0" lang="en-US" sz="2200" spc="-1" strike="noStrike">
                <a:solidFill>
                  <a:srgbClr val="1c5a02"/>
                </a:solidFill>
                <a:latin typeface="Gill Sans"/>
              </a:rPr>
              <a:t>-4 are putative novel repe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66960" y="3124080"/>
            <a:ext cx="5410080" cy="3367080"/>
            <a:chOff x="1866960" y="3124080"/>
            <a:chExt cx="5410080" cy="33670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rcRect l="0" t="0" r="21472" b="10352"/>
            <a:stretch/>
          </p:blipFill>
          <p:spPr>
            <a:xfrm>
              <a:off x="3309480" y="3124080"/>
              <a:ext cx="1081800" cy="3367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rcRect l="0" t="0" r="0" b="14214"/>
            <a:stretch/>
          </p:blipFill>
          <p:spPr>
            <a:xfrm>
              <a:off x="6122880" y="3124080"/>
              <a:ext cx="1154160" cy="3367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rcRect l="29901" t="0" r="0" b="14214"/>
            <a:stretch/>
          </p:blipFill>
          <p:spPr>
            <a:xfrm>
              <a:off x="1866960" y="3124080"/>
              <a:ext cx="1127160" cy="3367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2" name="" descr=""/>
            <p:cNvPicPr/>
            <p:nvPr/>
          </p:nvPicPr>
          <p:blipFill>
            <a:blip r:embed="rId4"/>
            <a:srcRect l="0" t="0" r="0" b="11963"/>
            <a:stretch/>
          </p:blipFill>
          <p:spPr>
            <a:xfrm>
              <a:off x="4855320" y="3124080"/>
              <a:ext cx="738720" cy="3367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93" name=""/>
          <p:cNvSpPr/>
          <p:nvPr/>
        </p:nvSpPr>
        <p:spPr>
          <a:xfrm>
            <a:off x="2135160" y="6461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5a02"/>
                </a:solidFill>
                <a:latin typeface="Gill Sans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63640" y="64659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5a02"/>
                </a:solidFill>
                <a:latin typeface="Gill Sans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35240" y="6461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5a02"/>
                </a:solidFill>
                <a:latin typeface="Gill Sans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2240" y="64659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5a02"/>
                </a:solidFill>
                <a:latin typeface="Gill Sans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20:09:19Z</dcterms:created>
  <dc:creator>Sarah Elgin</dc:creator>
  <dc:description/>
  <dc:language>en-US</dc:language>
  <cp:lastModifiedBy>Sarah Elgin</cp:lastModifiedBy>
  <dcterms:modified xsi:type="dcterms:W3CDTF">2006-05-01T20:17:35Z</dcterms:modified>
  <cp:revision>8</cp:revision>
  <dc:subject/>
  <dc:title>PowerPoint Presentation</dc:title>
</cp:coreProperties>
</file>