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2.docx" ContentType="application/vnd.openxmlformats-officedocument.wordprocessingml.document"/>
  <Override PartName="/ppt/media/image9.pct" ContentType="image/x-pict"/>
  <Override PartName="/ppt/media/image13.pct" ContentType="image/x-pict"/>
  <Override PartName="/ppt/media/image15.pct" ContentType="image/x-pict"/>
  <Override PartName="/ppt/media/image14.pct" ContentType="image/x-pict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2DD7-DA62-4792-AE80-B1867F15D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62E5-8E47-4FB1-B44E-A5373BE9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5B71-5E00-4208-B58F-85D70D2E9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0A5C-15DE-4F64-8157-5CC689C31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55AB-23ED-4828-8911-E1ADA72E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5F1D-578F-40BF-9D8D-FD6C5648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CE52-FCB9-44E5-BFB5-95435982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B181-4E1A-4FF6-900D-D66D6E1E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9138-5A3B-454C-A841-16ACE73D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3C68-5968-438A-AA24-A64470C5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9F7F-36E8-4E39-B836-7D69AE32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7291-CE38-4996-BEEA-A468854D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DAB5-2360-40E0-A468-95114512D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pct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ct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tation of Fosmid 16B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e S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434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2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CSC genome browser f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on 2 of feature 6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p is from 37,460-37,52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ddled with stop codons (even outside gap area) in all three fr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not likely transposable retroelement since 11 of 13 exons matc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04920" y="4419720"/>
          <a:ext cx="8566200" cy="200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419720"/>
                    <a:ext cx="8566200" cy="20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nter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85800" y="1905120"/>
          <a:ext cx="7772400" cy="348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05120"/>
                    <a:ext cx="7772400" cy="34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nter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p codons are within the g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exon actually split into two (with appropriate splice si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5800" y="2895480"/>
          <a:ext cx="7696080" cy="186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895480"/>
                    <a:ext cx="7696080" cy="18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ustal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ed Crk gene and compared against opossum, mouse, frog, w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09480" y="3124080"/>
          <a:ext cx="777240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24080"/>
                    <a:ext cx="777240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5.4% Repetitive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1981080"/>
          <a:ext cx="7772400" cy="27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unting for Novel Repe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ile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838080" y="3124080"/>
          <a:ext cx="7848720" cy="216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124080"/>
                    <a:ext cx="7848720" cy="21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838080" y="2567160"/>
          <a:ext cx="7848720" cy="583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567160"/>
                    <a:ext cx="7848720" cy="58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0880" y="2133720"/>
            <a:ext cx="510552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. melanog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te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04920" y="1856880"/>
            <a:ext cx="8444880" cy="3738960"/>
            <a:chOff x="304920" y="1856880"/>
            <a:chExt cx="8444880" cy="3738960"/>
          </a:xfrm>
        </p:grpSpPr>
        <p:sp>
          <p:nvSpPr>
            <p:cNvPr id="102" name=""/>
            <p:cNvSpPr/>
            <p:nvPr/>
          </p:nvSpPr>
          <p:spPr>
            <a:xfrm>
              <a:off x="643680" y="4690440"/>
              <a:ext cx="733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643680" y="4558680"/>
              <a:ext cx="1715760" cy="170280"/>
              <a:chOff x="643680" y="4558680"/>
              <a:chExt cx="1715760" cy="170280"/>
            </a:xfrm>
          </p:grpSpPr>
          <p:sp>
            <p:nvSpPr>
              <p:cNvPr id="104" name=""/>
              <p:cNvSpPr/>
              <p:nvPr/>
            </p:nvSpPr>
            <p:spPr>
              <a:xfrm>
                <a:off x="643680" y="455868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99920" y="455868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955800" y="455868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111680" y="455868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267920" y="455868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423800" y="455868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0" name=""/>
              <p:cNvGrpSpPr/>
              <p:nvPr/>
            </p:nvGrpSpPr>
            <p:grpSpPr>
              <a:xfrm>
                <a:off x="1579680" y="4558680"/>
                <a:ext cx="779760" cy="169920"/>
                <a:chOff x="1579680" y="4558680"/>
                <a:chExt cx="779760" cy="16992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1579680" y="4558680"/>
                  <a:ext cx="0" cy="16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735560" y="4558680"/>
                  <a:ext cx="0" cy="16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1891440" y="4558680"/>
                  <a:ext cx="0" cy="16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047680" y="4558680"/>
                  <a:ext cx="0" cy="16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203560" y="4558680"/>
                  <a:ext cx="0" cy="16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359440" y="4558680"/>
                  <a:ext cx="0" cy="16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" name=""/>
            <p:cNvGrpSpPr/>
            <p:nvPr/>
          </p:nvGrpSpPr>
          <p:grpSpPr>
            <a:xfrm>
              <a:off x="2518920" y="4519440"/>
              <a:ext cx="1717200" cy="170280"/>
              <a:chOff x="2518920" y="4519440"/>
              <a:chExt cx="1717200" cy="170280"/>
            </a:xfrm>
          </p:grpSpPr>
          <p:sp>
            <p:nvSpPr>
              <p:cNvPr id="118" name=""/>
              <p:cNvSpPr/>
              <p:nvPr/>
            </p:nvSpPr>
            <p:spPr>
              <a:xfrm>
                <a:off x="2518920" y="451944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675160" y="451944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831040" y="451944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987280" y="451944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143520" y="451944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299760" y="451944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3455640" y="4519440"/>
                <a:ext cx="780480" cy="169920"/>
                <a:chOff x="3455640" y="4519440"/>
                <a:chExt cx="780480" cy="1699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3455640" y="4519440"/>
                  <a:ext cx="0" cy="16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611520" y="4519440"/>
                  <a:ext cx="0" cy="16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767760" y="4519440"/>
                  <a:ext cx="0" cy="16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924000" y="4519440"/>
                  <a:ext cx="0" cy="16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080240" y="4519440"/>
                  <a:ext cx="0" cy="16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236120" y="4519440"/>
                  <a:ext cx="0" cy="16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" name=""/>
            <p:cNvGrpSpPr/>
            <p:nvPr/>
          </p:nvGrpSpPr>
          <p:grpSpPr>
            <a:xfrm>
              <a:off x="4388760" y="4519440"/>
              <a:ext cx="1717200" cy="170280"/>
              <a:chOff x="4388760" y="4519440"/>
              <a:chExt cx="1717200" cy="170280"/>
            </a:xfrm>
          </p:grpSpPr>
          <p:sp>
            <p:nvSpPr>
              <p:cNvPr id="132" name=""/>
              <p:cNvSpPr/>
              <p:nvPr/>
            </p:nvSpPr>
            <p:spPr>
              <a:xfrm>
                <a:off x="4388760" y="451944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545000" y="451944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00880" y="451944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857120" y="451944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013360" y="451944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169600" y="451944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8" name=""/>
              <p:cNvGrpSpPr/>
              <p:nvPr/>
            </p:nvGrpSpPr>
            <p:grpSpPr>
              <a:xfrm>
                <a:off x="5325480" y="4519440"/>
                <a:ext cx="780480" cy="169920"/>
                <a:chOff x="5325480" y="4519440"/>
                <a:chExt cx="780480" cy="16992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5325480" y="4519440"/>
                  <a:ext cx="0" cy="16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481360" y="4519440"/>
                  <a:ext cx="0" cy="16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637600" y="4519440"/>
                  <a:ext cx="0" cy="16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793840" y="4519440"/>
                  <a:ext cx="0" cy="16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950080" y="4519440"/>
                  <a:ext cx="0" cy="16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6105960" y="4519440"/>
                  <a:ext cx="0" cy="16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5" name=""/>
            <p:cNvGrpSpPr/>
            <p:nvPr/>
          </p:nvGrpSpPr>
          <p:grpSpPr>
            <a:xfrm>
              <a:off x="6262560" y="4519440"/>
              <a:ext cx="1717200" cy="170280"/>
              <a:chOff x="6262560" y="4519440"/>
              <a:chExt cx="1717200" cy="170280"/>
            </a:xfrm>
          </p:grpSpPr>
          <p:sp>
            <p:nvSpPr>
              <p:cNvPr id="146" name=""/>
              <p:cNvSpPr/>
              <p:nvPr/>
            </p:nvSpPr>
            <p:spPr>
              <a:xfrm>
                <a:off x="6262560" y="451944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418800" y="451944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574680" y="451944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730920" y="451944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887160" y="451944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043400" y="451944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" name=""/>
              <p:cNvGrpSpPr/>
              <p:nvPr/>
            </p:nvGrpSpPr>
            <p:grpSpPr>
              <a:xfrm>
                <a:off x="7199280" y="4519440"/>
                <a:ext cx="780480" cy="169920"/>
                <a:chOff x="7199280" y="4519440"/>
                <a:chExt cx="780480" cy="16992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7199280" y="4519440"/>
                  <a:ext cx="0" cy="16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355160" y="4519440"/>
                  <a:ext cx="0" cy="16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511400" y="4519440"/>
                  <a:ext cx="0" cy="16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7667640" y="4519440"/>
                  <a:ext cx="0" cy="16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7823880" y="4519440"/>
                  <a:ext cx="0" cy="16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7979760" y="4519440"/>
                  <a:ext cx="0" cy="16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9" name=""/>
            <p:cNvSpPr/>
            <p:nvPr/>
          </p:nvSpPr>
          <p:spPr>
            <a:xfrm>
              <a:off x="486720" y="4755960"/>
              <a:ext cx="423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8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80520" y="47538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19800" y="47538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974840" y="47538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599960" y="47538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15560" y="47538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31080" y="2990160"/>
              <a:ext cx="733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631080" y="2858400"/>
              <a:ext cx="1715760" cy="170280"/>
              <a:chOff x="631080" y="2858400"/>
              <a:chExt cx="1715760" cy="170280"/>
            </a:xfrm>
          </p:grpSpPr>
          <p:sp>
            <p:nvSpPr>
              <p:cNvPr id="167" name=""/>
              <p:cNvSpPr/>
              <p:nvPr/>
            </p:nvSpPr>
            <p:spPr>
              <a:xfrm>
                <a:off x="631080" y="285840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87320" y="285840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943200" y="285840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099080" y="285840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255320" y="285840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411200" y="285840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" name=""/>
              <p:cNvGrpSpPr/>
              <p:nvPr/>
            </p:nvGrpSpPr>
            <p:grpSpPr>
              <a:xfrm>
                <a:off x="1567080" y="2858400"/>
                <a:ext cx="779760" cy="169920"/>
                <a:chOff x="1567080" y="2858400"/>
                <a:chExt cx="779760" cy="16992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1567080" y="2858400"/>
                  <a:ext cx="0" cy="16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722960" y="2858400"/>
                  <a:ext cx="0" cy="16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1878840" y="2858400"/>
                  <a:ext cx="0" cy="16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2035080" y="2858400"/>
                  <a:ext cx="0" cy="16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2190960" y="2858400"/>
                  <a:ext cx="0" cy="16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346840" y="2858400"/>
                  <a:ext cx="0" cy="16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0" name=""/>
            <p:cNvGrpSpPr/>
            <p:nvPr/>
          </p:nvGrpSpPr>
          <p:grpSpPr>
            <a:xfrm>
              <a:off x="2506680" y="2819160"/>
              <a:ext cx="1717200" cy="170280"/>
              <a:chOff x="2506680" y="2819160"/>
              <a:chExt cx="1717200" cy="170280"/>
            </a:xfrm>
          </p:grpSpPr>
          <p:sp>
            <p:nvSpPr>
              <p:cNvPr id="181" name=""/>
              <p:cNvSpPr/>
              <p:nvPr/>
            </p:nvSpPr>
            <p:spPr>
              <a:xfrm>
                <a:off x="2506680" y="281916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662920" y="281916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818800" y="281916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975040" y="281916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131280" y="281916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287520" y="281916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7" name=""/>
              <p:cNvGrpSpPr/>
              <p:nvPr/>
            </p:nvGrpSpPr>
            <p:grpSpPr>
              <a:xfrm>
                <a:off x="3443400" y="2819160"/>
                <a:ext cx="780480" cy="169920"/>
                <a:chOff x="3443400" y="2819160"/>
                <a:chExt cx="780480" cy="16992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3443400" y="2819160"/>
                  <a:ext cx="0" cy="16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599280" y="2819160"/>
                  <a:ext cx="0" cy="16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3755520" y="2819160"/>
                  <a:ext cx="0" cy="16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911760" y="2819160"/>
                  <a:ext cx="0" cy="16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068000" y="2819160"/>
                  <a:ext cx="0" cy="16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223880" y="2819160"/>
                  <a:ext cx="0" cy="16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4" name=""/>
            <p:cNvGrpSpPr/>
            <p:nvPr/>
          </p:nvGrpSpPr>
          <p:grpSpPr>
            <a:xfrm>
              <a:off x="4376520" y="2819160"/>
              <a:ext cx="1717200" cy="170280"/>
              <a:chOff x="4376520" y="2819160"/>
              <a:chExt cx="1717200" cy="170280"/>
            </a:xfrm>
          </p:grpSpPr>
          <p:sp>
            <p:nvSpPr>
              <p:cNvPr id="195" name=""/>
              <p:cNvSpPr/>
              <p:nvPr/>
            </p:nvSpPr>
            <p:spPr>
              <a:xfrm>
                <a:off x="4376520" y="281916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32760" y="281916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688640" y="281916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844880" y="281916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001120" y="281916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157360" y="281916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1" name=""/>
              <p:cNvGrpSpPr/>
              <p:nvPr/>
            </p:nvGrpSpPr>
            <p:grpSpPr>
              <a:xfrm>
                <a:off x="5313240" y="2819160"/>
                <a:ext cx="780480" cy="169920"/>
                <a:chOff x="5313240" y="2819160"/>
                <a:chExt cx="780480" cy="1699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5313240" y="2819160"/>
                  <a:ext cx="0" cy="16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469120" y="2819160"/>
                  <a:ext cx="0" cy="16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625360" y="2819160"/>
                  <a:ext cx="0" cy="16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781600" y="2819160"/>
                  <a:ext cx="0" cy="16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937840" y="2819160"/>
                  <a:ext cx="0" cy="16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6093720" y="2819160"/>
                  <a:ext cx="0" cy="16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6249960" y="2819160"/>
              <a:ext cx="1717200" cy="170280"/>
              <a:chOff x="6249960" y="2819160"/>
              <a:chExt cx="1717200" cy="170280"/>
            </a:xfrm>
          </p:grpSpPr>
          <p:sp>
            <p:nvSpPr>
              <p:cNvPr id="209" name=""/>
              <p:cNvSpPr/>
              <p:nvPr/>
            </p:nvSpPr>
            <p:spPr>
              <a:xfrm>
                <a:off x="6249960" y="281916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406200" y="281916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562080" y="281916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718320" y="281916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874560" y="281916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030800" y="281916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7186680" y="2819160"/>
                <a:ext cx="780480" cy="169920"/>
                <a:chOff x="7186680" y="2819160"/>
                <a:chExt cx="780480" cy="16992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7186680" y="2819160"/>
                  <a:ext cx="0" cy="16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7342560" y="2819160"/>
                  <a:ext cx="0" cy="16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7498800" y="2819160"/>
                  <a:ext cx="0" cy="16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655040" y="2819160"/>
                  <a:ext cx="0" cy="16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811280" y="2819160"/>
                  <a:ext cx="0" cy="16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967160" y="2819160"/>
                  <a:ext cx="0" cy="16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2" name=""/>
            <p:cNvSpPr/>
            <p:nvPr/>
          </p:nvSpPr>
          <p:spPr>
            <a:xfrm>
              <a:off x="474480" y="3055680"/>
              <a:ext cx="423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9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67040" y="30535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16760" y="30535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486840" y="30535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44920" y="30535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7040" y="30535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84200" y="30535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61720" y="30535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39240" y="30535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808960" y="3132360"/>
              <a:ext cx="5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080480" y="30535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72320" y="30535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326720" y="3386520"/>
              <a:ext cx="141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nit: Mi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322400" y="5136120"/>
              <a:ext cx="142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nit: Ki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982440" y="2117880"/>
              <a:ext cx="169200" cy="7012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675880" y="3871800"/>
              <a:ext cx="931320" cy="701280"/>
            </a:xfrm>
            <a:prstGeom prst="rightArrow">
              <a:avLst>
                <a:gd name="adj1" fmla="val 50000"/>
                <a:gd name="adj2" fmla="val 33201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756560" y="2234880"/>
              <a:ext cx="338760" cy="5842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522960" y="3871800"/>
              <a:ext cx="3132720" cy="701280"/>
            </a:xfrm>
            <a:prstGeom prst="rightArrow">
              <a:avLst>
                <a:gd name="adj1" fmla="val 50000"/>
                <a:gd name="adj2" fmla="val 111679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920" y="1856880"/>
              <a:ext cx="145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G52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945960" y="3610440"/>
              <a:ext cx="145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G52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52520" y="3610440"/>
              <a:ext cx="145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G1671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163640" y="1971360"/>
              <a:ext cx="145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G1671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-3200400" y="3809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 algn="ctr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. viri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-1523880" y="1752480"/>
            <a:ext cx="46479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. melanog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te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457200" y="2133720"/>
            <a:ext cx="8425080" cy="3387960"/>
            <a:chOff x="457200" y="2133720"/>
            <a:chExt cx="8425080" cy="3387960"/>
          </a:xfrm>
        </p:grpSpPr>
        <p:grpSp>
          <p:nvGrpSpPr>
            <p:cNvPr id="248" name=""/>
            <p:cNvGrpSpPr/>
            <p:nvPr/>
          </p:nvGrpSpPr>
          <p:grpSpPr>
            <a:xfrm>
              <a:off x="457200" y="2399040"/>
              <a:ext cx="8425080" cy="3122640"/>
              <a:chOff x="457200" y="2399040"/>
              <a:chExt cx="8425080" cy="3122640"/>
            </a:xfrm>
          </p:grpSpPr>
          <p:sp>
            <p:nvSpPr>
              <p:cNvPr id="249" name=""/>
              <p:cNvSpPr/>
              <p:nvPr/>
            </p:nvSpPr>
            <p:spPr>
              <a:xfrm>
                <a:off x="3721320" y="2399040"/>
                <a:ext cx="418680" cy="53856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479200" y="4131000"/>
                <a:ext cx="1087920" cy="494280"/>
              </a:xfrm>
              <a:prstGeom prst="leftArrow">
                <a:avLst>
                  <a:gd name="adj1" fmla="val 50000"/>
                  <a:gd name="adj2" fmla="val 55025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651360" y="4131000"/>
                <a:ext cx="334440" cy="537840"/>
              </a:xfrm>
              <a:prstGeom prst="leftArrow">
                <a:avLst>
                  <a:gd name="adj1" fmla="val 50000"/>
                  <a:gd name="adj2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474800" y="2399040"/>
                <a:ext cx="1171800" cy="556560"/>
              </a:xfrm>
              <a:prstGeom prst="leftArrow">
                <a:avLst>
                  <a:gd name="adj1" fmla="val 50000"/>
                  <a:gd name="adj2" fmla="val 52636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716920" y="4131000"/>
                <a:ext cx="753120" cy="556200"/>
              </a:xfrm>
              <a:prstGeom prst="leftArrow">
                <a:avLst>
                  <a:gd name="adj1" fmla="val 50000"/>
                  <a:gd name="adj2" fmla="val 33851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809600" y="4131000"/>
                <a:ext cx="334800" cy="54108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5" name=""/>
              <p:cNvGrpSpPr/>
              <p:nvPr/>
            </p:nvGrpSpPr>
            <p:grpSpPr>
              <a:xfrm>
                <a:off x="457200" y="4749120"/>
                <a:ext cx="7407720" cy="772560"/>
                <a:chOff x="457200" y="4749120"/>
                <a:chExt cx="7407720" cy="77256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612000" y="4928400"/>
                  <a:ext cx="725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7" name=""/>
                <p:cNvGrpSpPr/>
                <p:nvPr/>
              </p:nvGrpSpPr>
              <p:grpSpPr>
                <a:xfrm>
                  <a:off x="457200" y="4749120"/>
                  <a:ext cx="7407000" cy="772560"/>
                  <a:chOff x="457200" y="4749120"/>
                  <a:chExt cx="7407000" cy="77256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612000" y="4790160"/>
                    <a:ext cx="1696320" cy="178560"/>
                    <a:chOff x="612000" y="4790160"/>
                    <a:chExt cx="1696320" cy="1785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612000" y="4790160"/>
                      <a:ext cx="0" cy="178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766440" y="4790160"/>
                      <a:ext cx="0" cy="178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920520" y="4790160"/>
                      <a:ext cx="0" cy="178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1074600" y="4790160"/>
                      <a:ext cx="0" cy="178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1229040" y="4790160"/>
                      <a:ext cx="0" cy="178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1383120" y="4790160"/>
                      <a:ext cx="0" cy="178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65" name=""/>
                    <p:cNvGrpSpPr/>
                    <p:nvPr/>
                  </p:nvGrpSpPr>
                  <p:grpSpPr>
                    <a:xfrm>
                      <a:off x="1537560" y="4790160"/>
                      <a:ext cx="770760" cy="178200"/>
                      <a:chOff x="1537560" y="4790160"/>
                      <a:chExt cx="770760" cy="178200"/>
                    </a:xfrm>
                  </p:grpSpPr>
                  <p:sp>
                    <p:nvSpPr>
                      <p:cNvPr id="266" name=""/>
                      <p:cNvSpPr/>
                      <p:nvPr/>
                    </p:nvSpPr>
                    <p:spPr>
                      <a:xfrm>
                        <a:off x="1537560" y="4790160"/>
                        <a:ext cx="0" cy="178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7" name=""/>
                      <p:cNvSpPr/>
                      <p:nvPr/>
                    </p:nvSpPr>
                    <p:spPr>
                      <a:xfrm>
                        <a:off x="1691640" y="4790160"/>
                        <a:ext cx="0" cy="178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8" name=""/>
                      <p:cNvSpPr/>
                      <p:nvPr/>
                    </p:nvSpPr>
                    <p:spPr>
                      <a:xfrm>
                        <a:off x="1845720" y="4790160"/>
                        <a:ext cx="0" cy="178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9" name=""/>
                      <p:cNvSpPr/>
                      <p:nvPr/>
                    </p:nvSpPr>
                    <p:spPr>
                      <a:xfrm>
                        <a:off x="2000160" y="4790160"/>
                        <a:ext cx="0" cy="178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0" name=""/>
                      <p:cNvSpPr/>
                      <p:nvPr/>
                    </p:nvSpPr>
                    <p:spPr>
                      <a:xfrm>
                        <a:off x="2154240" y="4790160"/>
                        <a:ext cx="0" cy="178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1" name=""/>
                      <p:cNvSpPr/>
                      <p:nvPr/>
                    </p:nvSpPr>
                    <p:spPr>
                      <a:xfrm>
                        <a:off x="2308320" y="4790160"/>
                        <a:ext cx="0" cy="178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2466000" y="4749120"/>
                    <a:ext cx="1697040" cy="178920"/>
                    <a:chOff x="2466000" y="4749120"/>
                    <a:chExt cx="1697040" cy="17892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2466000" y="4749120"/>
                      <a:ext cx="0" cy="178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2620440" y="4749120"/>
                      <a:ext cx="0" cy="178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2774520" y="4749120"/>
                      <a:ext cx="0" cy="178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2928960" y="4749120"/>
                      <a:ext cx="0" cy="178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3083400" y="4749120"/>
                      <a:ext cx="0" cy="178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3237480" y="4749120"/>
                      <a:ext cx="0" cy="178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79" name=""/>
                    <p:cNvGrpSpPr/>
                    <p:nvPr/>
                  </p:nvGrpSpPr>
                  <p:grpSpPr>
                    <a:xfrm>
                      <a:off x="3391920" y="4749120"/>
                      <a:ext cx="771120" cy="178560"/>
                      <a:chOff x="3391920" y="4749120"/>
                      <a:chExt cx="771120" cy="178560"/>
                    </a:xfrm>
                  </p:grpSpPr>
                  <p:sp>
                    <p:nvSpPr>
                      <p:cNvPr id="280" name=""/>
                      <p:cNvSpPr/>
                      <p:nvPr/>
                    </p:nvSpPr>
                    <p:spPr>
                      <a:xfrm>
                        <a:off x="3391920" y="4749120"/>
                        <a:ext cx="0" cy="1785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1" name=""/>
                      <p:cNvSpPr/>
                      <p:nvPr/>
                    </p:nvSpPr>
                    <p:spPr>
                      <a:xfrm>
                        <a:off x="3546000" y="4749120"/>
                        <a:ext cx="0" cy="1785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2" name=""/>
                      <p:cNvSpPr/>
                      <p:nvPr/>
                    </p:nvSpPr>
                    <p:spPr>
                      <a:xfrm>
                        <a:off x="3700080" y="4749120"/>
                        <a:ext cx="0" cy="1785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3" name=""/>
                      <p:cNvSpPr/>
                      <p:nvPr/>
                    </p:nvSpPr>
                    <p:spPr>
                      <a:xfrm>
                        <a:off x="3854880" y="4749120"/>
                        <a:ext cx="0" cy="1785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4" name=""/>
                      <p:cNvSpPr/>
                      <p:nvPr/>
                    </p:nvSpPr>
                    <p:spPr>
                      <a:xfrm>
                        <a:off x="4008960" y="4749120"/>
                        <a:ext cx="0" cy="1785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5" name=""/>
                      <p:cNvSpPr/>
                      <p:nvPr/>
                    </p:nvSpPr>
                    <p:spPr>
                      <a:xfrm>
                        <a:off x="4163040" y="4749120"/>
                        <a:ext cx="0" cy="1785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86" name=""/>
                  <p:cNvGrpSpPr/>
                  <p:nvPr/>
                </p:nvGrpSpPr>
                <p:grpSpPr>
                  <a:xfrm>
                    <a:off x="4314960" y="4749120"/>
                    <a:ext cx="1697040" cy="178920"/>
                    <a:chOff x="4314960" y="4749120"/>
                    <a:chExt cx="1697040" cy="178920"/>
                  </a:xfrm>
                </p:grpSpPr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4314960" y="4749120"/>
                      <a:ext cx="0" cy="178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4469400" y="4749120"/>
                      <a:ext cx="0" cy="178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4623480" y="4749120"/>
                      <a:ext cx="0" cy="178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4777920" y="4749120"/>
                      <a:ext cx="0" cy="178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4932360" y="4749120"/>
                      <a:ext cx="0" cy="178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5086440" y="4749120"/>
                      <a:ext cx="0" cy="178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93" name=""/>
                    <p:cNvGrpSpPr/>
                    <p:nvPr/>
                  </p:nvGrpSpPr>
                  <p:grpSpPr>
                    <a:xfrm>
                      <a:off x="5240880" y="4749120"/>
                      <a:ext cx="771120" cy="178560"/>
                      <a:chOff x="5240880" y="4749120"/>
                      <a:chExt cx="771120" cy="178560"/>
                    </a:xfrm>
                  </p:grpSpPr>
                  <p:sp>
                    <p:nvSpPr>
                      <p:cNvPr id="294" name=""/>
                      <p:cNvSpPr/>
                      <p:nvPr/>
                    </p:nvSpPr>
                    <p:spPr>
                      <a:xfrm>
                        <a:off x="5240880" y="4749120"/>
                        <a:ext cx="0" cy="1785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5" name=""/>
                      <p:cNvSpPr/>
                      <p:nvPr/>
                    </p:nvSpPr>
                    <p:spPr>
                      <a:xfrm>
                        <a:off x="5394960" y="4749120"/>
                        <a:ext cx="0" cy="1785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6" name=""/>
                      <p:cNvSpPr/>
                      <p:nvPr/>
                    </p:nvSpPr>
                    <p:spPr>
                      <a:xfrm>
                        <a:off x="5549040" y="4749120"/>
                        <a:ext cx="0" cy="1785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7" name=""/>
                      <p:cNvSpPr/>
                      <p:nvPr/>
                    </p:nvSpPr>
                    <p:spPr>
                      <a:xfrm>
                        <a:off x="5703840" y="4749120"/>
                        <a:ext cx="0" cy="1785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8" name=""/>
                      <p:cNvSpPr/>
                      <p:nvPr/>
                    </p:nvSpPr>
                    <p:spPr>
                      <a:xfrm>
                        <a:off x="5857920" y="4749120"/>
                        <a:ext cx="0" cy="1785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9" name=""/>
                      <p:cNvSpPr/>
                      <p:nvPr/>
                    </p:nvSpPr>
                    <p:spPr>
                      <a:xfrm>
                        <a:off x="6012000" y="4749120"/>
                        <a:ext cx="0" cy="1785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00" name=""/>
                  <p:cNvGrpSpPr/>
                  <p:nvPr/>
                </p:nvGrpSpPr>
                <p:grpSpPr>
                  <a:xfrm>
                    <a:off x="6167160" y="4749120"/>
                    <a:ext cx="1697040" cy="178920"/>
                    <a:chOff x="6167160" y="4749120"/>
                    <a:chExt cx="1697040" cy="178920"/>
                  </a:xfrm>
                </p:grpSpPr>
                <p:sp>
                  <p:nvSpPr>
                    <p:cNvPr id="301" name=""/>
                    <p:cNvSpPr/>
                    <p:nvPr/>
                  </p:nvSpPr>
                  <p:spPr>
                    <a:xfrm>
                      <a:off x="6167160" y="4749120"/>
                      <a:ext cx="0" cy="178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2" name=""/>
                    <p:cNvSpPr/>
                    <p:nvPr/>
                  </p:nvSpPr>
                  <p:spPr>
                    <a:xfrm>
                      <a:off x="6321600" y="4749120"/>
                      <a:ext cx="0" cy="178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>
                      <a:off x="6475680" y="4749120"/>
                      <a:ext cx="0" cy="178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4" name=""/>
                    <p:cNvSpPr/>
                    <p:nvPr/>
                  </p:nvSpPr>
                  <p:spPr>
                    <a:xfrm>
                      <a:off x="6630120" y="4749120"/>
                      <a:ext cx="0" cy="178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5" name=""/>
                    <p:cNvSpPr/>
                    <p:nvPr/>
                  </p:nvSpPr>
                  <p:spPr>
                    <a:xfrm>
                      <a:off x="6784560" y="4749120"/>
                      <a:ext cx="0" cy="178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>
                      <a:off x="6938640" y="4749120"/>
                      <a:ext cx="0" cy="178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07" name=""/>
                    <p:cNvGrpSpPr/>
                    <p:nvPr/>
                  </p:nvGrpSpPr>
                  <p:grpSpPr>
                    <a:xfrm>
                      <a:off x="7093080" y="4749120"/>
                      <a:ext cx="771120" cy="178560"/>
                      <a:chOff x="7093080" y="4749120"/>
                      <a:chExt cx="771120" cy="178560"/>
                    </a:xfrm>
                  </p:grpSpPr>
                  <p:sp>
                    <p:nvSpPr>
                      <p:cNvPr id="308" name=""/>
                      <p:cNvSpPr/>
                      <p:nvPr/>
                    </p:nvSpPr>
                    <p:spPr>
                      <a:xfrm>
                        <a:off x="7093080" y="4749120"/>
                        <a:ext cx="0" cy="1785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9" name=""/>
                      <p:cNvSpPr/>
                      <p:nvPr/>
                    </p:nvSpPr>
                    <p:spPr>
                      <a:xfrm>
                        <a:off x="7247160" y="4749120"/>
                        <a:ext cx="0" cy="1785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0" name=""/>
                      <p:cNvSpPr/>
                      <p:nvPr/>
                    </p:nvSpPr>
                    <p:spPr>
                      <a:xfrm>
                        <a:off x="7401240" y="4749120"/>
                        <a:ext cx="0" cy="1785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1" name=""/>
                      <p:cNvSpPr/>
                      <p:nvPr/>
                    </p:nvSpPr>
                    <p:spPr>
                      <a:xfrm>
                        <a:off x="7556040" y="4749120"/>
                        <a:ext cx="0" cy="1785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2" name=""/>
                      <p:cNvSpPr/>
                      <p:nvPr/>
                    </p:nvSpPr>
                    <p:spPr>
                      <a:xfrm>
                        <a:off x="7710120" y="4749120"/>
                        <a:ext cx="0" cy="1785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3" name=""/>
                      <p:cNvSpPr/>
                      <p:nvPr/>
                    </p:nvSpPr>
                    <p:spPr>
                      <a:xfrm>
                        <a:off x="7864200" y="4749120"/>
                        <a:ext cx="0" cy="1785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314" name=""/>
                  <p:cNvSpPr/>
                  <p:nvPr/>
                </p:nvSpPr>
                <p:spPr>
                  <a:xfrm>
                    <a:off x="457200" y="5001480"/>
                    <a:ext cx="35064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     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1276920" y="4970880"/>
                    <a:ext cx="2707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000880" y="4970880"/>
                    <a:ext cx="3607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694960" y="4970880"/>
                    <a:ext cx="3607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5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3467520" y="4970880"/>
                    <a:ext cx="3607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4236480" y="4970880"/>
                    <a:ext cx="3607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5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5010840" y="4919040"/>
                    <a:ext cx="3607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5782320" y="4919040"/>
                    <a:ext cx="3607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5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6553440" y="4929480"/>
                    <a:ext cx="3607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7323840" y="4929480"/>
                    <a:ext cx="3607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5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4" name=""/>
              <p:cNvSpPr/>
              <p:nvPr/>
            </p:nvSpPr>
            <p:spPr>
              <a:xfrm>
                <a:off x="612360" y="3197520"/>
                <a:ext cx="725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5" name=""/>
              <p:cNvGrpSpPr/>
              <p:nvPr/>
            </p:nvGrpSpPr>
            <p:grpSpPr>
              <a:xfrm>
                <a:off x="612360" y="3058560"/>
                <a:ext cx="1695240" cy="180000"/>
                <a:chOff x="612360" y="3058560"/>
                <a:chExt cx="1695240" cy="18000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612360" y="3058560"/>
                  <a:ext cx="0" cy="18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766800" y="3058560"/>
                  <a:ext cx="0" cy="18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920880" y="3058560"/>
                  <a:ext cx="0" cy="18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074600" y="3058560"/>
                  <a:ext cx="0" cy="18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229400" y="3058560"/>
                  <a:ext cx="0" cy="18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383120" y="3058560"/>
                  <a:ext cx="0" cy="18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2" name=""/>
                <p:cNvGrpSpPr/>
                <p:nvPr/>
              </p:nvGrpSpPr>
              <p:grpSpPr>
                <a:xfrm>
                  <a:off x="1537200" y="3058560"/>
                  <a:ext cx="770400" cy="179640"/>
                  <a:chOff x="1537200" y="3058560"/>
                  <a:chExt cx="770400" cy="17964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1537200" y="3058560"/>
                    <a:ext cx="0" cy="179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1690920" y="3058560"/>
                    <a:ext cx="0" cy="179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1845000" y="3058560"/>
                    <a:ext cx="0" cy="179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1999440" y="3058560"/>
                    <a:ext cx="0" cy="179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2153520" y="3058560"/>
                    <a:ext cx="0" cy="179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2307600" y="3058560"/>
                    <a:ext cx="0" cy="179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9" name=""/>
              <p:cNvGrpSpPr/>
              <p:nvPr/>
            </p:nvGrpSpPr>
            <p:grpSpPr>
              <a:xfrm>
                <a:off x="2466000" y="3017520"/>
                <a:ext cx="1697400" cy="179280"/>
                <a:chOff x="2466000" y="3017520"/>
                <a:chExt cx="1697400" cy="17928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2466000" y="3017520"/>
                  <a:ext cx="0" cy="179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2620440" y="3017520"/>
                  <a:ext cx="0" cy="179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2774520" y="3017520"/>
                  <a:ext cx="0" cy="179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2928960" y="3017520"/>
                  <a:ext cx="0" cy="179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083400" y="3017520"/>
                  <a:ext cx="0" cy="179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3237840" y="3017520"/>
                  <a:ext cx="0" cy="179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6" name=""/>
                <p:cNvGrpSpPr/>
                <p:nvPr/>
              </p:nvGrpSpPr>
              <p:grpSpPr>
                <a:xfrm>
                  <a:off x="3391920" y="3017520"/>
                  <a:ext cx="771480" cy="178920"/>
                  <a:chOff x="3391920" y="3017520"/>
                  <a:chExt cx="771480" cy="17892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>
                    <a:off x="3391920" y="3017520"/>
                    <a:ext cx="0" cy="178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3546000" y="3017520"/>
                    <a:ext cx="0" cy="178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3700440" y="3017520"/>
                    <a:ext cx="0" cy="178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3854880" y="3017520"/>
                    <a:ext cx="0" cy="178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4009320" y="3017520"/>
                    <a:ext cx="0" cy="178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4163400" y="3017520"/>
                    <a:ext cx="0" cy="178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3" name=""/>
              <p:cNvGrpSpPr/>
              <p:nvPr/>
            </p:nvGrpSpPr>
            <p:grpSpPr>
              <a:xfrm>
                <a:off x="4314600" y="3017520"/>
                <a:ext cx="1697400" cy="179280"/>
                <a:chOff x="4314600" y="3017520"/>
                <a:chExt cx="1697400" cy="17928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4314600" y="3017520"/>
                  <a:ext cx="0" cy="179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4469040" y="3017520"/>
                  <a:ext cx="0" cy="179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4623120" y="3017520"/>
                  <a:ext cx="0" cy="179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4777560" y="3017520"/>
                  <a:ext cx="0" cy="179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4932000" y="3017520"/>
                  <a:ext cx="0" cy="179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5086440" y="3017520"/>
                  <a:ext cx="0" cy="179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0" name=""/>
                <p:cNvGrpSpPr/>
                <p:nvPr/>
              </p:nvGrpSpPr>
              <p:grpSpPr>
                <a:xfrm>
                  <a:off x="5240520" y="3017520"/>
                  <a:ext cx="771480" cy="178920"/>
                  <a:chOff x="5240520" y="3017520"/>
                  <a:chExt cx="771480" cy="178920"/>
                </a:xfrm>
              </p:grpSpPr>
              <p:sp>
                <p:nvSpPr>
                  <p:cNvPr id="361" name=""/>
                  <p:cNvSpPr/>
                  <p:nvPr/>
                </p:nvSpPr>
                <p:spPr>
                  <a:xfrm>
                    <a:off x="5240520" y="3017520"/>
                    <a:ext cx="0" cy="178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5394600" y="3017520"/>
                    <a:ext cx="0" cy="178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5549040" y="3017520"/>
                    <a:ext cx="0" cy="178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5703480" y="3017520"/>
                    <a:ext cx="0" cy="178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5857920" y="3017520"/>
                    <a:ext cx="0" cy="178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6012000" y="3017520"/>
                    <a:ext cx="0" cy="178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7" name=""/>
              <p:cNvGrpSpPr/>
              <p:nvPr/>
            </p:nvGrpSpPr>
            <p:grpSpPr>
              <a:xfrm>
                <a:off x="6166440" y="3017520"/>
                <a:ext cx="1697400" cy="179280"/>
                <a:chOff x="6166440" y="3017520"/>
                <a:chExt cx="1697400" cy="17928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6166440" y="3017520"/>
                  <a:ext cx="0" cy="179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6320880" y="3017520"/>
                  <a:ext cx="0" cy="179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6474960" y="3017520"/>
                  <a:ext cx="0" cy="179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629400" y="3017520"/>
                  <a:ext cx="0" cy="179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6783840" y="3017520"/>
                  <a:ext cx="0" cy="179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6938280" y="3017520"/>
                  <a:ext cx="0" cy="179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4" name=""/>
                <p:cNvGrpSpPr/>
                <p:nvPr/>
              </p:nvGrpSpPr>
              <p:grpSpPr>
                <a:xfrm>
                  <a:off x="7092360" y="3017520"/>
                  <a:ext cx="771480" cy="178920"/>
                  <a:chOff x="7092360" y="3017520"/>
                  <a:chExt cx="771480" cy="1789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7092360" y="3017520"/>
                    <a:ext cx="0" cy="178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7246440" y="3017520"/>
                    <a:ext cx="0" cy="178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7400880" y="3017520"/>
                    <a:ext cx="0" cy="178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7555320" y="3017520"/>
                    <a:ext cx="0" cy="178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7709760" y="3017520"/>
                    <a:ext cx="0" cy="178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7863840" y="3017520"/>
                    <a:ext cx="0" cy="178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81" name=""/>
              <p:cNvSpPr/>
              <p:nvPr/>
            </p:nvSpPr>
            <p:spPr>
              <a:xfrm>
                <a:off x="457200" y="3264840"/>
                <a:ext cx="502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1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210680" y="3264840"/>
                <a:ext cx="49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000520" y="3239280"/>
                <a:ext cx="36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694600" y="3239280"/>
                <a:ext cx="49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2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467880" y="3239280"/>
                <a:ext cx="36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237920" y="3239280"/>
                <a:ext cx="49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3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010120" y="3184920"/>
                <a:ext cx="36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781600" y="3184920"/>
                <a:ext cx="36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553440" y="3197520"/>
                <a:ext cx="36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324920" y="3197520"/>
                <a:ext cx="36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963800" y="2399040"/>
                <a:ext cx="1004400" cy="556560"/>
              </a:xfrm>
              <a:prstGeom prst="leftArrow">
                <a:avLst>
                  <a:gd name="adj1" fmla="val 50000"/>
                  <a:gd name="adj2" fmla="val 45116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730120" y="2399040"/>
                <a:ext cx="334800" cy="61848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473240" y="3258000"/>
                <a:ext cx="1409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nit: 10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508520" y="4989960"/>
                <a:ext cx="1256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nit: 1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1963800" y="2133720"/>
              <a:ext cx="117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G3199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549880" y="3864240"/>
              <a:ext cx="117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G3199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35960" y="2133720"/>
              <a:ext cx="150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G1587 (Crk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474800" y="2133720"/>
              <a:ext cx="117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G3199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563080" y="2133720"/>
              <a:ext cx="217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G1629 (yellow-h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396040" y="3864240"/>
              <a:ext cx="117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G3199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00440" y="3864240"/>
              <a:ext cx="200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G1629 (yellow-h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89080" y="3864240"/>
              <a:ext cx="150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G1587 (Crk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-3048120" y="4038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 algn="ctr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. viri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609480" y="1066680"/>
          <a:ext cx="7848720" cy="481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7848720" cy="481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sc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828800" y="1752480"/>
          <a:ext cx="5335560" cy="444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752480"/>
                    <a:ext cx="533556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1447920"/>
          <a:ext cx="8305920" cy="509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305920" cy="50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“Pipelin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in predicted amino acid from Genscan Blastp in FlyBase against an annotated amino aci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33520" y="3429000"/>
          <a:ext cx="7848360" cy="320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429000"/>
                    <a:ext cx="7848360" cy="32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“Pipelin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ed Blast2 (using blastx) on individual exons from isoform A protein sequence (Ensembl) and my entire fosmid DN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80880" y="4038480"/>
          <a:ext cx="10287000" cy="2373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038480"/>
                    <a:ext cx="10287000" cy="23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“Pipelin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 UCSC Genome Browser for Splice 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90720" y="3048120"/>
          <a:ext cx="5486400" cy="116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048120"/>
                    <a:ext cx="548640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990720" y="4800600"/>
          <a:ext cx="5346720" cy="109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4800600"/>
                    <a:ext cx="534672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“Pipelin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coordinates are determined, check on ExPASy Trans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066680" y="3352680"/>
          <a:ext cx="4496040" cy="136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352680"/>
                    <a:ext cx="4496040" cy="13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“Pipelin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ast2 (blastx) output for exon 2 of feature 6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295280" y="1981080"/>
          <a:ext cx="6248520" cy="412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981080"/>
                    <a:ext cx="6248520" cy="41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2T17:13:51Z</dcterms:created>
  <dc:creator>Sarah Elgin</dc:creator>
  <dc:description/>
  <dc:language>en-US</dc:language>
  <cp:lastModifiedBy>Sarah Elgin</cp:lastModifiedBy>
  <dcterms:modified xsi:type="dcterms:W3CDTF">2006-05-02T18:01:11Z</dcterms:modified>
  <cp:revision>14</cp:revision>
  <dc:subject/>
  <dc:title>PowerPoint Presentation</dc:title>
</cp:coreProperties>
</file>